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1E0-4F02-4AB8-B63D-EC68D6BD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D96-2694-486C-918A-3D9D6C67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F85-C16C-4FC1-BD8A-CEAC58A8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6228-7A77-43CE-9886-09D399C4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B891-B36F-42FF-BA6C-E4C0ABA0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F6BC-41E7-44BB-801D-03574659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30FB-2187-4254-B2F3-31C7360D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61E3-BDE0-4A38-8C84-AB553677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DBF8-A845-4722-946B-7CBB06A0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360" y="21333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AD92-37A0-41E1-AC7D-E9B0091F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48AF-6D52-4F6C-A6B5-49869D9F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DFB-7460-409E-A1D8-8ADC5847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14C6-DAD4-4E6B-823F-AB170679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0BC3-3028-4C6E-88DE-2B136F04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DCE3-F774-4F31-A8D2-80B23BEC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1C2E-8902-4B1D-A201-A46F684C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E206-B437-467E-9BAD-D0B441E4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4ED-62C4-4EA3-9A4B-08D10439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A8B-B917-4CBE-B4F9-1582AD9C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F43-BC2D-46BF-BBD3-A4F7ABCC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21333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AE6E-D693-4E96-B08A-A52933EF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8D5-9E60-469B-A464-3588A983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D0E-9FA8-4D20-9A16-67300B4F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406C-F526-4163-9439-B0FF0E4B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efpa-europe.org/home.htm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hyperlink" Target="http://www.efpa-europe.org/home.htm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6094440"/>
            <a:ext cx="2771640" cy="763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059280" cy="166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3EC9-0659-46E8-94B0-1E82B3969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6048360" cy="3294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5213-E624-409D-B56E-8C6235FBF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5656320"/>
            <a:ext cx="4356000" cy="120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3357360"/>
            <a:ext cx="82818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€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uropea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Qu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ificatio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suranc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eagu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nancial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e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rvices</a:t>
            </a:r>
            <a:br>
              <a:rPr sz="40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€FPA (project €FA) + EBTN (project CERTIFIED)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9280" y="5373720"/>
            <a:ext cx="4680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igel Lloyd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€FPA Project manag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€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ALIFIS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€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UALIFISE - assign EQF levels to FS qualifica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4 partners (11 countries) + 8 Relay partn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8 months 1/08 to 6/09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jectives (for financial services sector)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thodology for assigning EQF levels (knowledge or professional competence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sign EQF (and NQF) levels to existing national &amp; European qualifica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ign system to assure (monitor, review, endorse) nationally assigned EQF level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t up League to assure EQF leve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ference in May 2009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gres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viewed financial qualification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iloted draft Methodology: €FA (full competence) + local qualification (usually knowledge + skills)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 countries (DE, DK, ES, MT, NL, PL, UK)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iloting final Methodology in CZ, EL, F, HU, IT, PT, SI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atisfaction with overall EQF concep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dentified options for League, begun discussions on initial Leagu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QF descriptor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fficial translations of descriptors not reliab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escriptors do not allow clear differentiation (especially 3/4, also 4/5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ircular definitions, ambiguity, unnatural use of ‘competence’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Need to distinguish whether qualifications are predominantly K, S or 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cademic bia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NB qualification is often not fully specified in documen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 LO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eed to infer (depends on Panel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eaching level vs assessment level,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Os vs teaching vs assessment vs professional practic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S version” of the EQF? Giving examp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evelling methodology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velling is also useful check of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rnal coherence of qualific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ternal coherence of qualific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osition of Review Panel: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t (only) the “owner”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-5 people with complementary expertise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late to purpose of qualification (practitioners + teachers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mportance of preparation &amp; availability of: training programme materials + assessment materials + EQF levelling materials in national languag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dividuals level alone FIRS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mal style during the meeting, decision-oriente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ull Qualification, then Units / modu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vel needs to show ‘KSC weighting’ as well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rking: “60% of 5 is 3” problem.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adequacy / coverage of the assessment tool.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criteria needed to obtain the qualification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ag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66440"/>
            <a:ext cx="8893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ption 1: commission of exper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2708280"/>
            <a:ext cx="4897440" cy="29541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ption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pervise EQF/NQF levelling of FSS qualif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nitor national process (who involved, what process, how decision mad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sure FS qualifications levelled properly to EQF by national memb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ssible future role in ECV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2708280"/>
            <a:ext cx="3392280" cy="13683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ption 2 = Option 1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commendations for new qualifications towards harmo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221000"/>
            <a:ext cx="3392280" cy="1440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Option 3 = Option 2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official role in setting standards for qualifications recognised by EQF &amp; NQ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1480" y="5661000"/>
            <a:ext cx="864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urrently working towards 1 year joint €FPA &amp; EBTN “EQF Financial Services Committee” (Option 1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989000"/>
            <a:ext cx="88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ption 2: joint body of the associations officially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349360"/>
            <a:ext cx="8893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ption 3: new juridical entity established as a EQF sectoral “lead bod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Valorisation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tners in 11 partner countries + 8 Relay countr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€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PA (associates/affiliates in 23 countries) + EBTN (34 members in 27 countries + 11 associates worldwide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the EQF is mutually accepted by all the members of EBTN, the certificates created by the Association will be developed taking it into account.”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itical mass in Financial Services secto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ssons for other sectors (methodology, QA, League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national qualification system helpful for restoring trust in financial professional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4797360"/>
            <a:ext cx="43196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€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uropean Financial Planning 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ttn. M. Michael Fawcett, C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oflaan 12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3062 JE Rotterd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Nether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el: +31 10 240 02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wcett@efpa-europe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33577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ject €QUALIF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21:26Z</dcterms:created>
  <dc:creator>Marta</dc:creator>
  <dc:description/>
  <dc:language>en-US</dc:language>
  <cp:lastModifiedBy>jsb</cp:lastModifiedBy>
  <dcterms:modified xsi:type="dcterms:W3CDTF">2008-11-07T09:21:06Z</dcterms:modified>
  <cp:revision>7</cp:revision>
  <dc:subject/>
  <dc:title>Slide 1</dc:title>
</cp:coreProperties>
</file>